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E776-C809-474E-95FD-A09F8573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D48B-4C12-47B7-AC5F-466B248B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FE50-AD8C-4BAD-B4F0-9A7BB1A4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EFF3-C14E-46E5-950C-8B66E6BE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85D6-4849-46C8-9F74-01E0AA09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849C-0A84-4ABD-B15C-43842917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F427-1909-40C7-A3D0-D632926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A54B-B7B8-49B9-818B-BCE0DDB1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2484-B3C8-483B-B27C-48A0E1DD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6245-6E5C-43F1-9A97-FB2AF90E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8477-0B86-443A-8AD2-498A3741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AE59-8009-4855-A528-1D5EA1E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A4E-E7F8-4013-83AF-698E8055148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FDF1-2D1E-403D-A6DC-82438840C6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65B-C9C5-44C5-B8B3-2B1A3F11AF1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A157-ECE7-4FD4-BD67-57307468099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931-3E05-4B11-84A9-1ED5A1F69F1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D55-30DC-4FF7-A39F-CACAF38CF62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FFE3-383B-4C3A-BC1D-7C5D1EC5B08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5EC-4D72-4F97-81ED-2C9ECEA1285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765F-B3D7-498A-934A-4526CDFD744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7EF4-0232-4958-9982-0EE8D9155C5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CED6-9FE9-465B-9C3D-2018D7C2F23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6AA4-E1CF-41B8-A17C-7E8E7499C6F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D754-3514-4B47-A439-E3FA1E52942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5613-6D9A-4D72-86CE-E8927FFA143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9FB0-3E09-4259-84D5-64A91BA0580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0AE-132F-42C3-BB96-C186B403C9D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61D-DB21-403F-8524-E5BB4EF4577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Zelníčková Bibiána</cp:lastModifiedBy>
  <cp:lastPrinted>2012-08-23T07:58:44Z</cp:lastPrinted>
  <dcterms:modified xsi:type="dcterms:W3CDTF">2018-11-22T13:27:52Z</dcterms:modified>
  <cp:revision>37</cp:revision>
  <dc:subject/>
  <dc:title>PowerPoint-Präsentation</dc:title>
</cp:coreProperties>
</file>