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6440"/>
            <a:ext cx="430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13636440"/>
            <a:ext cx="4302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168-BFAD-439F-A125-B71C814C75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5622840" y="13636800"/>
            <a:ext cx="430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489-BDDD-45E8-9972-1A29AA88E2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76E-7417-48B8-A307-61E733AF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999-4180-4DC6-AC62-BF4E419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887-73B7-43DD-AD8D-A3DC38A2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DD0-DEF0-463F-AD7B-7EB82BD0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CA5-BF86-4440-A632-305367DB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EB2-4B0C-4B04-980F-B83E7D4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445-8A68-4823-9D14-2C6E4D4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D7D-0DBE-497E-85D4-724F18C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7C3-94DD-4E8D-8C7A-213B864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107-155A-4D2E-B0EB-E2C8A82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262-0767-4D69-9BBF-274D6D1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EC1-D289-496C-9CAB-0DE2AA6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C9F5F519-05F3-408B-A9D7-A32CB2B1632A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618800" y="5824440"/>
            <a:ext cx="49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Negrelliho viaduk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336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45640" y="81410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5,4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83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4874040" y="1083600"/>
            <a:ext cx="1062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(hranice OŘ-ST 665/71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47640" y="11723760"/>
            <a:ext cx="479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72080" y="8557920"/>
            <a:ext cx="43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2379960" cy="1423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048720" y="10793520"/>
            <a:ext cx="678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žst V. Osek -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8160" y="9685440"/>
            <a:ext cx="4176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29280" y="6291720"/>
            <a:ext cx="2469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8880" y="6267600"/>
            <a:ext cx="1414440" cy="1582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19640" y="6621120"/>
            <a:ext cx="338040" cy="97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07440" y="8822520"/>
            <a:ext cx="14400" cy="9414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8274600" y="9057240"/>
            <a:ext cx="461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691680" y="2420280"/>
            <a:ext cx="3656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0. 20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388040" y="910080"/>
            <a:ext cx="449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377880" y="9082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7,68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47360" y="3821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54,18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04920" y="2012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,38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13280" y="40032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4,88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39960" y="25196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1,53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44760" y="10591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2,1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48920" y="50097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50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691760" y="635112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74520" y="7150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17400" y="116618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,4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894480" y="1134864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88,0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40320" y="107733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44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967240" y="949896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9,03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321040" y="9252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1"/>
          <p:cNvSpPr/>
          <p:nvPr/>
        </p:nvSpPr>
        <p:spPr>
          <a:xfrm rot="5400000">
            <a:off x="7183080" y="105508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,12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9"/>
          <p:cNvSpPr/>
          <p:nvPr/>
        </p:nvSpPr>
        <p:spPr>
          <a:xfrm rot="5400000">
            <a:off x="6139440" y="10840320"/>
            <a:ext cx="302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,63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5"/>
          <p:cNvSpPr/>
          <p:nvPr/>
        </p:nvSpPr>
        <p:spPr>
          <a:xfrm rot="5400000">
            <a:off x="7635240" y="138276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</a:t>
            </a:r>
            <a:r>
              <a:rPr b="1" lang="cs-CZ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7"/>
          <p:cNvSpPr/>
          <p:nvPr/>
        </p:nvSpPr>
        <p:spPr>
          <a:xfrm rot="5400000">
            <a:off x="7296840" y="139248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8"/>
          <p:cNvSpPr/>
          <p:nvPr/>
        </p:nvSpPr>
        <p:spPr>
          <a:xfrm rot="5400000">
            <a:off x="7080480" y="13867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90"/>
          <p:cNvSpPr/>
          <p:nvPr/>
        </p:nvSpPr>
        <p:spPr>
          <a:xfrm rot="5400000">
            <a:off x="6574680" y="1443960"/>
            <a:ext cx="667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48"/>
          <p:cNvSpPr/>
          <p:nvPr/>
        </p:nvSpPr>
        <p:spPr>
          <a:xfrm>
            <a:off x="3240000" y="11124360"/>
            <a:ext cx="1605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9"/>
          <p:cNvSpPr/>
          <p:nvPr/>
        </p:nvSpPr>
        <p:spPr>
          <a:xfrm>
            <a:off x="3246120" y="11815920"/>
            <a:ext cx="160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50"/>
          <p:cNvSpPr/>
          <p:nvPr/>
        </p:nvSpPr>
        <p:spPr>
          <a:xfrm>
            <a:off x="2523240" y="12088440"/>
            <a:ext cx="175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1"/>
          <p:cNvSpPr/>
          <p:nvPr/>
        </p:nvSpPr>
        <p:spPr>
          <a:xfrm>
            <a:off x="2091240" y="11218680"/>
            <a:ext cx="2822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7,7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1"/>
          <p:cNvSpPr/>
          <p:nvPr/>
        </p:nvSpPr>
        <p:spPr>
          <a:xfrm rot="5400000">
            <a:off x="444744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308"/>
          <p:cNvSpPr/>
          <p:nvPr/>
        </p:nvSpPr>
        <p:spPr>
          <a:xfrm rot="5400000">
            <a:off x="1041120" y="17593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ovéPole 3"/>
          <p:cNvSpPr/>
          <p:nvPr/>
        </p:nvSpPr>
        <p:spPr>
          <a:xfrm>
            <a:off x="8227440" y="9348480"/>
            <a:ext cx="2563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Dolní Bous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ovéPole 5"/>
          <p:cNvSpPr/>
          <p:nvPr/>
        </p:nvSpPr>
        <p:spPr>
          <a:xfrm>
            <a:off x="8139240" y="950112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,53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4"/>
          <p:cNvSpPr/>
          <p:nvPr/>
        </p:nvSpPr>
        <p:spPr>
          <a:xfrm flipH="1" flipV="1">
            <a:off x="7710480" y="6538680"/>
            <a:ext cx="141120" cy="50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84"/>
          <p:cNvSpPr/>
          <p:nvPr/>
        </p:nvSpPr>
        <p:spPr>
          <a:xfrm rot="1156200">
            <a:off x="7646040" y="6581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ál 1"/>
          <p:cNvSpPr/>
          <p:nvPr/>
        </p:nvSpPr>
        <p:spPr>
          <a:xfrm>
            <a:off x="8383680" y="9053640"/>
            <a:ext cx="48960" cy="46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ál 2"/>
          <p:cNvSpPr/>
          <p:nvPr/>
        </p:nvSpPr>
        <p:spPr>
          <a:xfrm>
            <a:off x="9188280" y="9282240"/>
            <a:ext cx="49320" cy="44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ovéPole 3"/>
          <p:cNvSpPr/>
          <p:nvPr/>
        </p:nvSpPr>
        <p:spPr>
          <a:xfrm>
            <a:off x="9086040" y="9353520"/>
            <a:ext cx="256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Příš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0"/>
          <p:cNvSpPr/>
          <p:nvPr/>
        </p:nvSpPr>
        <p:spPr>
          <a:xfrm rot="1860000">
            <a:off x="8712360" y="90104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římá spojnice 10"/>
          <p:cNvSpPr/>
          <p:nvPr/>
        </p:nvSpPr>
        <p:spPr>
          <a:xfrm flipV="1">
            <a:off x="8421840" y="9007560"/>
            <a:ext cx="280800" cy="752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bdélník 14"/>
          <p:cNvSpPr/>
          <p:nvPr/>
        </p:nvSpPr>
        <p:spPr>
          <a:xfrm rot="6578400">
            <a:off x="8398080" y="9393480"/>
            <a:ext cx="26604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ovéPole 15"/>
          <p:cNvSpPr/>
          <p:nvPr/>
        </p:nvSpPr>
        <p:spPr>
          <a:xfrm>
            <a:off x="8602920" y="8643960"/>
            <a:ext cx="24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Odb. Záluč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279"/>
          <p:cNvSpPr/>
          <p:nvPr/>
        </p:nvSpPr>
        <p:spPr>
          <a:xfrm rot="5400000">
            <a:off x="8226000" y="617688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ovéPole 16"/>
          <p:cNvSpPr/>
          <p:nvPr/>
        </p:nvSpPr>
        <p:spPr>
          <a:xfrm>
            <a:off x="8213040" y="6213600"/>
            <a:ext cx="25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Liběch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ovéPole 17"/>
          <p:cNvSpPr/>
          <p:nvPr/>
        </p:nvSpPr>
        <p:spPr>
          <a:xfrm>
            <a:off x="8121600" y="6288120"/>
            <a:ext cx="241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ovéPole 18"/>
          <p:cNvSpPr/>
          <p:nvPr/>
        </p:nvSpPr>
        <p:spPr>
          <a:xfrm>
            <a:off x="7515360" y="6281640"/>
            <a:ext cx="2412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n. Mělník Lab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bdélník 19"/>
          <p:cNvSpPr/>
          <p:nvPr/>
        </p:nvSpPr>
        <p:spPr>
          <a:xfrm rot="7807200">
            <a:off x="7904160" y="6384240"/>
            <a:ext cx="270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ovéPole 20"/>
          <p:cNvSpPr/>
          <p:nvPr/>
        </p:nvSpPr>
        <p:spPr>
          <a:xfrm>
            <a:off x="2410560" y="12088800"/>
            <a:ext cx="25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km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17,1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21-09-06T09:48:01Z</cp:lastPrinted>
  <dcterms:modified xsi:type="dcterms:W3CDTF">2022-06-20T08:53:21Z</dcterms:modified>
  <cp:revision>58</cp:revision>
  <dc:subject/>
  <dc:title>Bez nadpisu</dc:title>
</cp:coreProperties>
</file>