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25050" cy="1435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143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46400" y="1793880"/>
            <a:ext cx="3633840" cy="484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6908400"/>
            <a:ext cx="794232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3636440"/>
            <a:ext cx="4302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13636440"/>
            <a:ext cx="4302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3CA0-9E09-450E-BFBB-B4B703959A7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3146400" y="1793880"/>
            <a:ext cx="3633840" cy="48448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92160" y="6908400"/>
            <a:ext cx="794232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Zástupný symbol pro číslo snímku 3"/>
          <p:cNvSpPr/>
          <p:nvPr/>
        </p:nvSpPr>
        <p:spPr>
          <a:xfrm>
            <a:off x="5622840" y="13636800"/>
            <a:ext cx="430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0302-30AB-4CDB-A5B3-F5F19B8267B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C3E-9065-458F-B07C-7B8381FF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F8A-DCC0-4033-86B9-148B8158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641-8821-4CEA-BBA7-6034F08F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69D-D8C1-4DAB-A344-42367E01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67F-2FE0-4D96-81D0-00AA167A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878B-5BA4-4B1A-80F5-23F27758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CFA-EFB6-4CB8-8E42-4A6B9A3E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A2E-2335-41C3-AE62-0FD49F23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53F-D5F4-4FC9-A23E-186223FF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8208-FB6F-428C-BCAF-3725EF5E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E2A-A070-45BD-8FE0-99DBBA0F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7CD-65EE-420D-9495-478E6D39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C086C4DC-7C56-4A01-A5E5-3D9BA25762B6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618800" y="5824440"/>
            <a:ext cx="495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Negrelliho viadukt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336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45640" y="814104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5,4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83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4874040" y="1083600"/>
            <a:ext cx="1062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(hranice OŘ-ST 665/71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47640" y="11723760"/>
            <a:ext cx="479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72080" y="8557920"/>
            <a:ext cx="43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2379960" cy="1423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048720" y="10793520"/>
            <a:ext cx="678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žst V. Osek -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8160" y="9685440"/>
            <a:ext cx="41760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29280" y="6291720"/>
            <a:ext cx="2469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8880" y="6267600"/>
            <a:ext cx="1414440" cy="15825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19640" y="6621120"/>
            <a:ext cx="338040" cy="97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07440" y="8822520"/>
            <a:ext cx="14400" cy="9414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8274600" y="9057240"/>
            <a:ext cx="46188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ladá Boleslav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691680" y="2420280"/>
            <a:ext cx="36565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0. 20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388040" y="910080"/>
            <a:ext cx="449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377880" y="90828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27,68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47360" y="382140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54,189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04920" y="201240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6,38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13280" y="400320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4,88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39960" y="251964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1,53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44760" y="105912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2,1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48920" y="5009760"/>
            <a:ext cx="357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50,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81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691760" y="635112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9,66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74520" y="7150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17400" y="1166184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,4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894480" y="1134864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288,024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40320" y="10773360"/>
            <a:ext cx="357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44,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49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967240" y="949896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99,037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321040" y="9252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1"/>
          <p:cNvSpPr/>
          <p:nvPr/>
        </p:nvSpPr>
        <p:spPr>
          <a:xfrm rot="5400000">
            <a:off x="7183080" y="1055088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,12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9"/>
          <p:cNvSpPr/>
          <p:nvPr/>
        </p:nvSpPr>
        <p:spPr>
          <a:xfrm rot="5400000">
            <a:off x="6139440" y="10840320"/>
            <a:ext cx="302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,63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5"/>
          <p:cNvSpPr/>
          <p:nvPr/>
        </p:nvSpPr>
        <p:spPr>
          <a:xfrm rot="5400000">
            <a:off x="7635240" y="138276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</a:t>
            </a:r>
            <a:r>
              <a:rPr b="1" lang="cs-CZ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7"/>
          <p:cNvSpPr/>
          <p:nvPr/>
        </p:nvSpPr>
        <p:spPr>
          <a:xfrm rot="5400000">
            <a:off x="7296840" y="139248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8"/>
          <p:cNvSpPr/>
          <p:nvPr/>
        </p:nvSpPr>
        <p:spPr>
          <a:xfrm rot="5400000">
            <a:off x="7080480" y="13867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90"/>
          <p:cNvSpPr/>
          <p:nvPr/>
        </p:nvSpPr>
        <p:spPr>
          <a:xfrm rot="5400000">
            <a:off x="6574680" y="1443960"/>
            <a:ext cx="667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448"/>
          <p:cNvSpPr/>
          <p:nvPr/>
        </p:nvSpPr>
        <p:spPr>
          <a:xfrm>
            <a:off x="3240000" y="11124360"/>
            <a:ext cx="1605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Arial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9"/>
          <p:cNvSpPr/>
          <p:nvPr/>
        </p:nvSpPr>
        <p:spPr>
          <a:xfrm>
            <a:off x="3246120" y="11815920"/>
            <a:ext cx="1605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Arial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50"/>
          <p:cNvSpPr/>
          <p:nvPr/>
        </p:nvSpPr>
        <p:spPr>
          <a:xfrm>
            <a:off x="2523240" y="12088440"/>
            <a:ext cx="17568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1"/>
          <p:cNvSpPr/>
          <p:nvPr/>
        </p:nvSpPr>
        <p:spPr>
          <a:xfrm>
            <a:off x="2091240" y="11218680"/>
            <a:ext cx="28224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67,71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1"/>
          <p:cNvSpPr/>
          <p:nvPr/>
        </p:nvSpPr>
        <p:spPr>
          <a:xfrm rot="5400000">
            <a:off x="444744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308"/>
          <p:cNvSpPr/>
          <p:nvPr/>
        </p:nvSpPr>
        <p:spPr>
          <a:xfrm rot="5400000">
            <a:off x="1041120" y="175932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ovéPole 3"/>
          <p:cNvSpPr/>
          <p:nvPr/>
        </p:nvSpPr>
        <p:spPr>
          <a:xfrm>
            <a:off x="8227440" y="9348480"/>
            <a:ext cx="2563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Žst Dolní Bous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ovéPole 5"/>
          <p:cNvSpPr/>
          <p:nvPr/>
        </p:nvSpPr>
        <p:spPr>
          <a:xfrm>
            <a:off x="8139240" y="9501120"/>
            <a:ext cx="2412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Km 34,53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284"/>
          <p:cNvSpPr/>
          <p:nvPr/>
        </p:nvSpPr>
        <p:spPr>
          <a:xfrm flipH="1" flipV="1">
            <a:off x="7710480" y="6538680"/>
            <a:ext cx="141120" cy="507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984"/>
          <p:cNvSpPr/>
          <p:nvPr/>
        </p:nvSpPr>
        <p:spPr>
          <a:xfrm rot="1156200">
            <a:off x="7646040" y="6581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10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ál 1"/>
          <p:cNvSpPr/>
          <p:nvPr/>
        </p:nvSpPr>
        <p:spPr>
          <a:xfrm>
            <a:off x="8383680" y="9053640"/>
            <a:ext cx="48960" cy="46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ál 2"/>
          <p:cNvSpPr/>
          <p:nvPr/>
        </p:nvSpPr>
        <p:spPr>
          <a:xfrm>
            <a:off x="9188280" y="9282240"/>
            <a:ext cx="49320" cy="44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ovéPole 3"/>
          <p:cNvSpPr/>
          <p:nvPr/>
        </p:nvSpPr>
        <p:spPr>
          <a:xfrm>
            <a:off x="9086040" y="9353520"/>
            <a:ext cx="2563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Žst Příš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330"/>
          <p:cNvSpPr/>
          <p:nvPr/>
        </p:nvSpPr>
        <p:spPr>
          <a:xfrm rot="1860000">
            <a:off x="8712360" y="90104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římá spojnice 10"/>
          <p:cNvSpPr/>
          <p:nvPr/>
        </p:nvSpPr>
        <p:spPr>
          <a:xfrm flipV="1">
            <a:off x="8421840" y="9007560"/>
            <a:ext cx="280800" cy="752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bdélník 14"/>
          <p:cNvSpPr/>
          <p:nvPr/>
        </p:nvSpPr>
        <p:spPr>
          <a:xfrm rot="6578400">
            <a:off x="8398080" y="9393480"/>
            <a:ext cx="26604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10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ovéPole 15"/>
          <p:cNvSpPr/>
          <p:nvPr/>
        </p:nvSpPr>
        <p:spPr>
          <a:xfrm>
            <a:off x="8602920" y="8643960"/>
            <a:ext cx="241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Odb. Záluč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1279"/>
          <p:cNvSpPr/>
          <p:nvPr/>
        </p:nvSpPr>
        <p:spPr>
          <a:xfrm rot="5400000">
            <a:off x="8226000" y="6176880"/>
            <a:ext cx="73080" cy="79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ovéPole 16"/>
          <p:cNvSpPr/>
          <p:nvPr/>
        </p:nvSpPr>
        <p:spPr>
          <a:xfrm>
            <a:off x="8213040" y="6213600"/>
            <a:ext cx="25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Liběch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ovéPole 17"/>
          <p:cNvSpPr/>
          <p:nvPr/>
        </p:nvSpPr>
        <p:spPr>
          <a:xfrm>
            <a:off x="8121600" y="6288120"/>
            <a:ext cx="2412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Km 349,66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ovéPole 18"/>
          <p:cNvSpPr/>
          <p:nvPr/>
        </p:nvSpPr>
        <p:spPr>
          <a:xfrm>
            <a:off x="7515360" y="6281640"/>
            <a:ext cx="2412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n. Mělník Lab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bdélník 19"/>
          <p:cNvSpPr/>
          <p:nvPr/>
        </p:nvSpPr>
        <p:spPr>
          <a:xfrm rot="7807200">
            <a:off x="7904160" y="6384240"/>
            <a:ext cx="27000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ovéPole 20"/>
          <p:cNvSpPr/>
          <p:nvPr/>
        </p:nvSpPr>
        <p:spPr>
          <a:xfrm>
            <a:off x="2410560" y="12088800"/>
            <a:ext cx="256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km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17,11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21-09-06T09:48:01Z</cp:lastPrinted>
  <dcterms:modified xsi:type="dcterms:W3CDTF">2022-06-20T08:53:21Z</dcterms:modified>
  <cp:revision>58</cp:revision>
  <dc:subject/>
  <dc:title>Bez nadpisu</dc:title>
</cp:coreProperties>
</file>