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6440"/>
            <a:ext cx="430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13636440"/>
            <a:ext cx="4302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211-5BAB-465A-A122-8C90026909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5622840" y="13636800"/>
            <a:ext cx="430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EE75-B72F-422E-B75D-89DE9EFE1B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753-7345-42C4-A0D1-F75A683B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1B6-BCDB-49F3-A2B9-C9D67D3B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C5B-6E75-4147-92E7-CD9A513C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20C-D569-48F8-9BD7-5BCF7C7A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FD9-1CC3-4074-BCCE-C2D8F418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9B6-746E-4763-9F15-5B1E6F40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F54-EF3C-4279-80C0-7E1DCC14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6B1-9035-4631-842E-6CD6CE9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530-CE47-471D-8AF4-105DC280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8BC-6F11-4E60-9195-36A5982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D52-9F66-495D-BF49-729BC71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2F4-02F0-4FD8-A44C-4B33D12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8E20F0BE-61E8-48A7-8D3E-6A3B761B17B0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618800" y="5824440"/>
            <a:ext cx="495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Negrelliho viaduk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336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45640" y="81410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5,4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83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4874040" y="1083600"/>
            <a:ext cx="1062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(hranice OŘ-ST 665/71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47640" y="11723760"/>
            <a:ext cx="479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72080" y="8557920"/>
            <a:ext cx="43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2379960" cy="1423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048720" y="10793520"/>
            <a:ext cx="678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žst V. Osek -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8160" y="9685440"/>
            <a:ext cx="4176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29280" y="6291720"/>
            <a:ext cx="2469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8880" y="6267600"/>
            <a:ext cx="1414440" cy="1582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19640" y="6621120"/>
            <a:ext cx="338040" cy="97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07440" y="8822520"/>
            <a:ext cx="14400" cy="9414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8274600" y="9057240"/>
            <a:ext cx="461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691680" y="2420280"/>
            <a:ext cx="3656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0. 20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388040" y="910080"/>
            <a:ext cx="449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377880" y="9082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7,68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47360" y="3821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54,18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04920" y="2012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,38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13280" y="40032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4,88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39960" y="25196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1,53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44760" y="10591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2,1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48920" y="50097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50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8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691760" y="635112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74520" y="7150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17400" y="116618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,4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894480" y="1134864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88,0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40320" y="107733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44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49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967240" y="949896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9,03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321040" y="9252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1"/>
          <p:cNvSpPr/>
          <p:nvPr/>
        </p:nvSpPr>
        <p:spPr>
          <a:xfrm rot="5400000">
            <a:off x="7183080" y="105508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,12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9"/>
          <p:cNvSpPr/>
          <p:nvPr/>
        </p:nvSpPr>
        <p:spPr>
          <a:xfrm rot="5400000">
            <a:off x="6139440" y="10840320"/>
            <a:ext cx="302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,63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5"/>
          <p:cNvSpPr/>
          <p:nvPr/>
        </p:nvSpPr>
        <p:spPr>
          <a:xfrm rot="5400000">
            <a:off x="7635240" y="138276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</a:t>
            </a:r>
            <a:r>
              <a:rPr b="1" lang="cs-CZ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7"/>
          <p:cNvSpPr/>
          <p:nvPr/>
        </p:nvSpPr>
        <p:spPr>
          <a:xfrm rot="5400000">
            <a:off x="7296840" y="139248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8"/>
          <p:cNvSpPr/>
          <p:nvPr/>
        </p:nvSpPr>
        <p:spPr>
          <a:xfrm rot="5400000">
            <a:off x="7080480" y="13867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90"/>
          <p:cNvSpPr/>
          <p:nvPr/>
        </p:nvSpPr>
        <p:spPr>
          <a:xfrm rot="5400000">
            <a:off x="6574680" y="1443960"/>
            <a:ext cx="667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48"/>
          <p:cNvSpPr/>
          <p:nvPr/>
        </p:nvSpPr>
        <p:spPr>
          <a:xfrm>
            <a:off x="3240000" y="11124360"/>
            <a:ext cx="1605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9"/>
          <p:cNvSpPr/>
          <p:nvPr/>
        </p:nvSpPr>
        <p:spPr>
          <a:xfrm>
            <a:off x="3246120" y="11815920"/>
            <a:ext cx="160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50"/>
          <p:cNvSpPr/>
          <p:nvPr/>
        </p:nvSpPr>
        <p:spPr>
          <a:xfrm>
            <a:off x="2523240" y="12088440"/>
            <a:ext cx="175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1"/>
          <p:cNvSpPr/>
          <p:nvPr/>
        </p:nvSpPr>
        <p:spPr>
          <a:xfrm>
            <a:off x="2091240" y="11218680"/>
            <a:ext cx="2822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7,7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1"/>
          <p:cNvSpPr/>
          <p:nvPr/>
        </p:nvSpPr>
        <p:spPr>
          <a:xfrm rot="5400000">
            <a:off x="444744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308"/>
          <p:cNvSpPr/>
          <p:nvPr/>
        </p:nvSpPr>
        <p:spPr>
          <a:xfrm rot="5400000">
            <a:off x="1041120" y="17593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ovéPole 3"/>
          <p:cNvSpPr/>
          <p:nvPr/>
        </p:nvSpPr>
        <p:spPr>
          <a:xfrm>
            <a:off x="8227440" y="9348480"/>
            <a:ext cx="2563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Dolní Bous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ovéPole 5"/>
          <p:cNvSpPr/>
          <p:nvPr/>
        </p:nvSpPr>
        <p:spPr>
          <a:xfrm>
            <a:off x="8139240" y="9501120"/>
            <a:ext cx="24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,53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284"/>
          <p:cNvSpPr/>
          <p:nvPr/>
        </p:nvSpPr>
        <p:spPr>
          <a:xfrm flipH="1" flipV="1">
            <a:off x="7710480" y="6538680"/>
            <a:ext cx="141120" cy="50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84"/>
          <p:cNvSpPr/>
          <p:nvPr/>
        </p:nvSpPr>
        <p:spPr>
          <a:xfrm rot="1156200">
            <a:off x="7646040" y="6581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ál 1"/>
          <p:cNvSpPr/>
          <p:nvPr/>
        </p:nvSpPr>
        <p:spPr>
          <a:xfrm>
            <a:off x="8383680" y="9053640"/>
            <a:ext cx="48960" cy="46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ál 2"/>
          <p:cNvSpPr/>
          <p:nvPr/>
        </p:nvSpPr>
        <p:spPr>
          <a:xfrm>
            <a:off x="9188280" y="9282240"/>
            <a:ext cx="49320" cy="44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ovéPole 3"/>
          <p:cNvSpPr/>
          <p:nvPr/>
        </p:nvSpPr>
        <p:spPr>
          <a:xfrm>
            <a:off x="9086040" y="9353520"/>
            <a:ext cx="256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Příš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0"/>
          <p:cNvSpPr/>
          <p:nvPr/>
        </p:nvSpPr>
        <p:spPr>
          <a:xfrm rot="1860000">
            <a:off x="8712360" y="90104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římá spojnice 10"/>
          <p:cNvSpPr/>
          <p:nvPr/>
        </p:nvSpPr>
        <p:spPr>
          <a:xfrm flipV="1">
            <a:off x="8421840" y="9007560"/>
            <a:ext cx="280800" cy="752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bdélník 14"/>
          <p:cNvSpPr/>
          <p:nvPr/>
        </p:nvSpPr>
        <p:spPr>
          <a:xfrm rot="6578400">
            <a:off x="8398080" y="9393480"/>
            <a:ext cx="26604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ovéPole 15"/>
          <p:cNvSpPr/>
          <p:nvPr/>
        </p:nvSpPr>
        <p:spPr>
          <a:xfrm>
            <a:off x="8602920" y="8643960"/>
            <a:ext cx="24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Odb. Záluč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279"/>
          <p:cNvSpPr/>
          <p:nvPr/>
        </p:nvSpPr>
        <p:spPr>
          <a:xfrm rot="5400000">
            <a:off x="8226000" y="617688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ovéPole 16"/>
          <p:cNvSpPr/>
          <p:nvPr/>
        </p:nvSpPr>
        <p:spPr>
          <a:xfrm>
            <a:off x="8213040" y="6213600"/>
            <a:ext cx="25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Liběch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ovéPole 17"/>
          <p:cNvSpPr/>
          <p:nvPr/>
        </p:nvSpPr>
        <p:spPr>
          <a:xfrm>
            <a:off x="8121600" y="6288120"/>
            <a:ext cx="241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ovéPole 18"/>
          <p:cNvSpPr/>
          <p:nvPr/>
        </p:nvSpPr>
        <p:spPr>
          <a:xfrm>
            <a:off x="7515360" y="6281640"/>
            <a:ext cx="2412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n. Mělník Lab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bdélník 19"/>
          <p:cNvSpPr/>
          <p:nvPr/>
        </p:nvSpPr>
        <p:spPr>
          <a:xfrm rot="7807200">
            <a:off x="7904160" y="6384240"/>
            <a:ext cx="270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ovéPole 20"/>
          <p:cNvSpPr/>
          <p:nvPr/>
        </p:nvSpPr>
        <p:spPr>
          <a:xfrm>
            <a:off x="2410560" y="12088800"/>
            <a:ext cx="25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km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17,1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21-09-06T09:48:01Z</cp:lastPrinted>
  <dcterms:modified xsi:type="dcterms:W3CDTF">2022-06-20T08:53:21Z</dcterms:modified>
  <cp:revision>58</cp:revision>
  <dc:subject/>
  <dc:title>Bez nadpisu</dc:title>
</cp:coreProperties>
</file>