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7C32-FCC3-474B-A262-ADF01AD4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FCDC-C3E4-4591-82AE-5FC7A6BC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FFA8-2B4F-43EB-A250-019E8BE0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CEF3-9F40-49CE-86A9-89772134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17FB-DADE-41FC-B50D-570C77B2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4995-E009-4CCE-9A65-5D839C16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BD01-28BE-45A0-B527-885C5EDE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1244-0B20-4AD6-B656-826E4453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0AA5-3A91-4D66-A749-04A64A18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0869-3A02-465A-BCFE-D3DC21CF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C48B-4AB2-4B40-80EB-39FF5512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CC4D-A741-494A-947D-98F973BC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B8FF-89BC-43F9-B172-5C15313C944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299C-1983-431A-9342-8F26D5AFDB8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31DD-8E1A-48AD-95AD-8E1E99A03DD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775B-238A-4380-A8EF-E8A9AFF8250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8B06-47B2-4A27-8363-88924578D17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0902-730D-4A74-8619-45611829829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0A4D-AE9B-4EF9-B8F4-7E5AB223CC6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8D7B-D461-42D8-B2A1-C10827689D0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AE89-F4D8-4930-8D64-714EF3B9B48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BC04-E6C2-4E8E-969D-98A0F04718A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78E6-7803-4E15-9811-0C9B8F26ED0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1123-2486-4BD6-B152-D83FFFF762F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69F2-09BF-414F-A184-5449615CAC0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7D5E-A619-402C-AABD-53EB1CAA65D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ADB0-4C9E-4575-8E06-B172031E696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04A8-377B-44B7-B74A-ABF08CD0BE6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F8CC-8185-4611-BDC0-73D2E98B4FA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Zelníčková Bibiána</cp:lastModifiedBy>
  <cp:lastPrinted>2012-08-23T07:58:44Z</cp:lastPrinted>
  <dcterms:modified xsi:type="dcterms:W3CDTF">2018-11-22T13:27:52Z</dcterms:modified>
  <cp:revision>37</cp:revision>
  <dc:subject/>
  <dc:title>PowerPoint-Präsentation</dc:title>
</cp:coreProperties>
</file>